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476280" y="1331640"/>
            <a:ext cx="523872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105228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1807-1DAF-4AFF-BEAF-DE7DD7C13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797-853C-48EB-81C1-E8F82375E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41F6-B67C-4D0D-B160-593F563C2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AA8B-A2BD-434C-BA8A-7A414FBCF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95160" y="1330200"/>
            <a:ext cx="4802400" cy="36021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5578200"/>
            <a:ext cx="502920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96D-ECE1-414E-8837-EAD5B23D3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two slides are to illustrate how important rapid and effective outbreak response can be in terms of reducing morbidity, mortality, and suffering.  Here we have depicted a late detection of a significant outbreak of disease requiring a coordinated response.  With a late detection and hence delayed response, the opportunity for control and prevention of cases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75F-C4F8-4137-AC06-91923C5A0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detection and rapid response, however, can save lives and reduce suffering.  Here you can see that the potential to prevent cases is much gre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response depends upon quick alert and notification to public health authorities to marshall an appropriat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586-B42C-4AA9-962D-098A295BE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HR represent a major step forward in international public health secu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vide an agreed framework for the collective international management of epidemics and other public health emergencies while minimising disruption to travel, trade and econo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ervation (related to yellow f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ervation (related to federali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understandings (related to sources of incidents, to reporting concerning risks outside its territory, to the question of judicially enforceable private righ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urke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tatement (related to a convention and regulations regarding the strai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3D86-BF54-4129-AAA7-47854AE16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74B3-EE90-4CFA-B3C7-BBA407CA4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HR are innovative beca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from purely a list of diseases to a dynamic process of risk identification, assessment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from a concept of static defence at borders, airports and ports to the concept of early detection, reporting and containment a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built on the concept that international health security is based on strong national public health infrastructure connected a global alert and respons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E27B-347C-4AC3-991C-478271F28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intended to "interfere" with purely natio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ffic and trade objective comes AFTER the health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97DA-36A9-4B9C-98CD-F53C1E461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intended to "interfere" with purely natio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ffic and trade objective comes AFTER the health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A33-6528-4236-80EF-87BF3EB3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253-939A-4ED0-80EB-E797B4C1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AE5-A6B5-48E6-9652-77523452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FB4-84F6-4261-80A3-268CA456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C72-A1FB-4D67-B5E7-B9C5E79C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A27-F856-42A9-873B-A5C8DFD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124-1408-4934-9907-E225309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09C-0651-491E-8402-7E98FD2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8D2-56D0-428A-BF09-09CFF47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BB5-ECD5-4775-BBD4-2251CA7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33C-ABC8-40F9-B2D4-1058DF10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0E1-B36E-4FE8-8DA7-123F8D88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453360"/>
            <a:ext cx="9145440" cy="4316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"/>
          <p:cNvPicPr/>
          <p:nvPr/>
        </p:nvPicPr>
        <p:blipFill>
          <a:blip r:embed="rId2"/>
          <a:stretch/>
        </p:blipFill>
        <p:spPr>
          <a:xfrm>
            <a:off x="7885080" y="6459480"/>
            <a:ext cx="1152720" cy="354240"/>
          </a:xfrm>
          <a:prstGeom prst="rect">
            <a:avLst/>
          </a:prstGeom>
          <a:ln w="0">
            <a:noFill/>
          </a:ln>
        </p:spPr>
      </p:pic>
      <p:sp>
        <p:nvSpPr>
          <p:cNvPr id="2" name="Text Box 15"/>
          <p:cNvSpPr/>
          <p:nvPr/>
        </p:nvSpPr>
        <p:spPr>
          <a:xfrm>
            <a:off x="0" y="6524640"/>
            <a:ext cx="20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IHR AFRO/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A92-C7C9-4D49-BECA-0FDF2F646E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5F1-231E-4034-AE0C-E59E3B6F2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ydououatf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260280"/>
            <a:ext cx="9145440" cy="65977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Seydou OUATTARA, DP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eydououatf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70 12 36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19160" y="1322280"/>
            <a:ext cx="7205760" cy="1094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é</a:t>
            </a: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glement Sanitaire International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16000" y="2276640"/>
            <a:ext cx="716904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B</a:t>
            </a:r>
            <a:r>
              <a:rPr b="1" i="1" lang="fr-BE" sz="3200" spc="-1" strike="noStrike">
                <a:solidFill>
                  <a:srgbClr val="ff3300"/>
                </a:solidFill>
                <a:latin typeface="Arial Narrow"/>
              </a:rPr>
              <a:t>a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tir la 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curi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Sanitaire Internatio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222200" y="3471840"/>
            <a:ext cx="706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/>
          <p:cNvSpPr/>
          <p:nvPr/>
        </p:nvSpPr>
        <p:spPr>
          <a:xfrm>
            <a:off x="7308720" y="4365720"/>
            <a:ext cx="1836720" cy="1439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tebulb"/>
          <p:cNvSpPr/>
          <p:nvPr/>
        </p:nvSpPr>
        <p:spPr>
          <a:xfrm>
            <a:off x="7740720" y="4869000"/>
            <a:ext cx="888840" cy="1230120"/>
          </a:xfrm>
          <a:custGeom>
            <a:avLst/>
            <a:gdLst>
              <a:gd name="textAreaLeft" fmla="*/ 146160 w 888840"/>
              <a:gd name="textAreaRight" fmla="*/ 752400 w 888840"/>
              <a:gd name="textAreaTop" fmla="*/ 124560 h 1230120"/>
              <a:gd name="textAreaBottom" fmla="*/ 528480 h 12301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81080" y="836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431640" y="1773360"/>
            <a:ext cx="8533080" cy="3887640"/>
            <a:chOff x="431640" y="1773360"/>
            <a:chExt cx="8533080" cy="3887640"/>
          </a:xfrm>
        </p:grpSpPr>
        <p:sp>
          <p:nvSpPr>
            <p:cNvPr id="125" name="Text Box 5"/>
            <p:cNvSpPr/>
            <p:nvPr/>
          </p:nvSpPr>
          <p:spPr>
            <a:xfrm>
              <a:off x="431640" y="1773360"/>
              <a:ext cx="8533080" cy="116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Point focal national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RSI </a:t>
              </a:r>
              <a:r>
                <a:rPr b="0" lang="fr-FR" sz="2800" spc="-1" strike="noStrike">
                  <a:solidFill>
                    <a:srgbClr val="000066"/>
                  </a:solidFill>
                  <a:latin typeface="Arial"/>
                </a:rPr>
                <a:t>dans chaque Etat Part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Points de contact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RSI </a:t>
              </a:r>
              <a:r>
                <a:rPr b="0" lang="fr-FR" sz="2800" spc="-1" strike="noStrike">
                  <a:solidFill>
                    <a:srgbClr val="000066"/>
                  </a:solidFill>
                  <a:latin typeface="Arial"/>
                </a:rPr>
                <a:t>de l’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6" descr=""/>
            <p:cNvPicPr/>
            <p:nvPr/>
          </p:nvPicPr>
          <p:blipFill>
            <a:blip r:embed="rId1"/>
            <a:stretch/>
          </p:blipFill>
          <p:spPr>
            <a:xfrm>
              <a:off x="1260360" y="2859120"/>
              <a:ext cx="295272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Arial Black"/>
              </a:rPr>
              <a:t>Point Focal National (PFN)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6400" y="2246040"/>
            <a:ext cx="7863120" cy="38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06d0"/>
                </a:solidFill>
                <a:latin typeface="Arial Narrow"/>
              </a:rPr>
              <a:t>Il s’agit du centre national désigné par chaque Etat Partie, qui doit être accessible à tout moment, et qui est chargé de notifier au Point de Contact de l’OMS une éventuelle USPPI, comme définie par le RSI(2005).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16000" y="1643040"/>
            <a:ext cx="55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43080" y="1487520"/>
            <a:ext cx="83930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spcBef>
                <a:spcPts val="1437"/>
              </a:spcBef>
              <a:buClr>
                <a:srgbClr val="2c06d0"/>
              </a:buClr>
              <a:buFont typeface="Wingdings" charset="2"/>
              <a:buChar char="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1800" spc="-1" strike="noStrike">
                <a:solidFill>
                  <a:srgbClr val="2c06d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2c06d0"/>
                </a:solidFill>
                <a:latin typeface="Arial"/>
              </a:rPr>
              <a:t>Niveau Régional de l’OM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1 numéro de téléphone, 1numéro de fax, 1 adresse Email dédié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Une équipe qui se relaie 24h/24 et 7 jours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Des procédures écrites pour chacune des rég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88"/>
              </a:spcBef>
              <a:buClr>
                <a:srgbClr val="2c06d0"/>
              </a:buClr>
              <a:buFont typeface="Wingdings" charset="2"/>
              <a:buChar char="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2c06d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2c06d0"/>
                </a:solidFill>
                <a:latin typeface="Arial"/>
              </a:rPr>
              <a:t>Niveau National de l’OMS (Bureau Pay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Inclus dans le système d’alerte et de réponse à tra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248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ses contacts avec le PFN R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248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ses liens avec le Point de Contact RSI régional de l’OM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60240" y="368280"/>
            <a:ext cx="58298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Arial Black"/>
              </a:rPr>
              <a:t>Point de Contact RSI de l’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81080" y="1125360"/>
            <a:ext cx="8783640" cy="263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89080" y="1844640"/>
            <a:ext cx="6840360" cy="31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7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Un domaine clé pour lequel le RSI(2005) établit un certain nombre d’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obligation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et de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rocédure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relatives à la surveillance des maladies, à l’échange d’informations, et à l’action collective en cas d’urgence de santé publique de portée intern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ITRE II –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308720" y="2637000"/>
            <a:ext cx="1836720" cy="1439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tebulb"/>
          <p:cNvSpPr/>
          <p:nvPr/>
        </p:nvSpPr>
        <p:spPr>
          <a:xfrm>
            <a:off x="7740720" y="3139920"/>
            <a:ext cx="888840" cy="1230480"/>
          </a:xfrm>
          <a:custGeom>
            <a:avLst/>
            <a:gdLst>
              <a:gd name="textAreaLeft" fmla="*/ 146160 w 888840"/>
              <a:gd name="textAreaRight" fmla="*/ 752400 w 888840"/>
              <a:gd name="textAreaTop" fmla="*/ 124560 h 1230480"/>
              <a:gd name="textAreaBottom" fmla="*/ 528840 h 12304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81080" y="15573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8"/>
          <p:cNvGrpSpPr/>
          <p:nvPr/>
        </p:nvGrpSpPr>
        <p:grpSpPr>
          <a:xfrm>
            <a:off x="181080" y="1989000"/>
            <a:ext cx="8896320" cy="4464360"/>
            <a:chOff x="181080" y="1989000"/>
            <a:chExt cx="8896320" cy="4464360"/>
          </a:xfrm>
        </p:grpSpPr>
        <p:sp>
          <p:nvSpPr>
            <p:cNvPr id="143" name="Text Box 5"/>
            <p:cNvSpPr/>
            <p:nvPr/>
          </p:nvSpPr>
          <p:spPr>
            <a:xfrm>
              <a:off x="181080" y="1989000"/>
              <a:ext cx="7129440" cy="359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Principales capacités requises pour la surveillance et l’action (Annexe 1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capacité de surveillance, de déclaration, de notification, de vérification, d’action et de collaboration …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Evaluation puis </a:t>
              </a:r>
              <a:r>
                <a:rPr b="1" lang="fr-FR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plan d’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5 ans</a:t>
              </a: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 + 2 ans si justifié + 2 ans (sur autorisation exceptionnelle du Directeur général de l’O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0" descr=""/>
            <p:cNvPicPr/>
            <p:nvPr/>
          </p:nvPicPr>
          <p:blipFill>
            <a:blip r:embed="rId1"/>
            <a:stretch/>
          </p:blipFill>
          <p:spPr>
            <a:xfrm>
              <a:off x="6589800" y="3819600"/>
              <a:ext cx="2487600" cy="26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12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ITRE II –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4789080" y="1700280"/>
            <a:ext cx="2808360" cy="1857240"/>
            <a:chOff x="4789080" y="1700280"/>
            <a:chExt cx="2808360" cy="1857240"/>
          </a:xfrm>
        </p:grpSpPr>
        <p:sp>
          <p:nvSpPr>
            <p:cNvPr id="147" name="AutoShape 15"/>
            <p:cNvSpPr/>
            <p:nvPr/>
          </p:nvSpPr>
          <p:spPr>
            <a:xfrm flipH="1">
              <a:off x="4788720" y="1700280"/>
              <a:ext cx="2808360" cy="18572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190840" y="1894320"/>
              <a:ext cx="200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336600"/>
                  </a:solidFill>
                  <a:latin typeface="Arial"/>
                </a:rPr>
                <a:t>A mettre en œuvre au plus tard en Juin 2012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81080" y="201312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41440" y="1197000"/>
            <a:ext cx="6696360" cy="511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e </a:t>
            </a:r>
            <a:r>
              <a:rPr b="1" lang="fr-FR" sz="2000" spc="-1" strike="noStrike" u="sng">
                <a:solidFill>
                  <a:srgbClr val="000066"/>
                </a:solidFill>
                <a:uFillTx/>
                <a:latin typeface="Arial"/>
              </a:rPr>
              <a:t>l’instrument de décision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(Annex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►►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Notification à l’OMS dans les 24h suivant l’évaluation des inform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out évènement pouvant constitue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une urgence de santé publique de portée international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(USP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►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tinuer de communiquer à l’OMS les informations exactes et suffisamment détaillées, y comp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définition des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résultats de 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source et le type de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nombre des cas et des dé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acteurs influant sur la propagation de la mal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mesures sanitaires utilisé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mmunication d’informations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1080" y="24922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60360" y="2781360"/>
            <a:ext cx="6408720" cy="16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elqu’en soit l’origine ou l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Il fournit à l’OMS toutes informations de santé publique pertinentes (dispositions de l’articl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1979640" y="3627360"/>
            <a:ext cx="6205680" cy="2754360"/>
            <a:chOff x="1979640" y="3627360"/>
            <a:chExt cx="6205680" cy="27543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6013440" y="3627360"/>
              <a:ext cx="217188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1979640" y="4941720"/>
              <a:ext cx="44654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66"/>
                  </a:solidFill>
                  <a:latin typeface="Arial"/>
                </a:rPr>
                <a:t>Accidents, bioterroris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81080" y="2949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620720" y="3284640"/>
            <a:ext cx="640872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i l’information est insuffisante pour utiliser l’instrument de décision, un Etat Partie peut néanmoins en tenir l’OMS informée et la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à propos des mesures sanitaires à prend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Objectifs d’apprentissage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A la fin de cette session, les participants seront capables de: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Lister les principaux changements du RSI 2005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Décrire les structures appliquées et leur </a:t>
            </a:r>
            <a:r>
              <a:rPr b="1" lang="fr-BE" sz="3000" spc="-1" strike="noStrike">
                <a:solidFill>
                  <a:srgbClr val="000066"/>
                </a:solidFill>
                <a:latin typeface="Arial Narrow"/>
              </a:rPr>
              <a:t>rôle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Décrire les procédures de communication et la gestion des événemen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3" name="Picture 5" descr="WHO-EN-white-H"/>
          <p:cNvPicPr/>
          <p:nvPr/>
        </p:nvPicPr>
        <p:blipFill>
          <a:blip r:embed="rId1"/>
          <a:stretch/>
        </p:blipFill>
        <p:spPr>
          <a:xfrm>
            <a:off x="1044720" y="5300640"/>
            <a:ext cx="22320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81080" y="3381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844720" y="1197000"/>
            <a:ext cx="5904000" cy="30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« L’OMS peut tenir compte de rapports émanant de sources autres que les notifications ou les consultations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consulte l’Etat Parti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et s’efforce de vérifier ces informations auprès de 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doit préserver le caractère confidentiel de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81080" y="3860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556000" y="1268280"/>
            <a:ext cx="6119640" cy="39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haque Etat Partie, à la demande de l’OMS, procède aux vérifications vou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emière réponse, ou accusé de réception,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ans les 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offre de collaboration de l’OMS. Si celle-ci est refusée et lorsque cela est justifié, l’OMS peut communiquer à d’autres Etats Parties les informations dont elle dis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81080" y="43178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60360" y="1173240"/>
            <a:ext cx="7705800" cy="489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e doit pas communiquer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es informations à d’autres Etats Parties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à moin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évènement constitue une US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formations attestent sa propagation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s mesures de lutte n’ont guère de chance d’abou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Etat Partie n’a pas la capacité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écessité de la mise en œuvre immédiate de mesures internationales de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54160" y="47973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20720" y="1413000"/>
            <a:ext cx="6985080" cy="42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</a:t>
            </a:r>
            <a:r>
              <a:rPr b="0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Directeur Général de l’OMS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détermine si un évènement constitue une US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Il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onsulte l’Etat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i le Directeur général et l’Etat Partie ne s’entendent pas dans les 48h sur la question de savoir si l’évènement constitue une USPPI, le DG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sollicite les vues du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Comité d’urgenc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selon la procédure définie dans l’Article 4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1080" y="525312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260360" y="4292640"/>
            <a:ext cx="6985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peut offrir de mobiliser une assistance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organismes internationaux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81080" y="5734080"/>
            <a:ext cx="878364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4076640"/>
            <a:ext cx="6985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coopère et coordonne ses activités avec d’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autres organisations intergouver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81080" y="309420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260360" y="1197000"/>
            <a:ext cx="698508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“…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s Etats Parties traitent les voyageurs dans le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espect de leur dignité et des droits humains fondamentaux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rotection des données person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080" y="5084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Arial Black"/>
              </a:rPr>
              <a:t>Liste d’Experts</a:t>
            </a:r>
            <a:endParaRPr b="0" lang="en-US" sz="3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523520"/>
            <a:ext cx="914544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GB" sz="3000" spc="-1" strike="noStrike">
                <a:solidFill>
                  <a:srgbClr val="000066"/>
                </a:solidFill>
                <a:latin typeface="Arial Narrow"/>
              </a:rPr>
              <a:t> Le DG établit une liste d’experts de tous les domaines de compétence pertinen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 Narrow"/>
              </a:rPr>
              <a:t>2. De plus, il nomme un membre à la demande de chaque Etat Partie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Arial Narrow"/>
              </a:rPr>
              <a:t>    </a:t>
            </a:r>
            <a:r>
              <a:rPr b="0" lang="en-GB" sz="3000" spc="-1" strike="noStrike">
                <a:solidFill>
                  <a:srgbClr val="000066"/>
                </a:solidFill>
                <a:latin typeface="Arial Narrow"/>
              </a:rPr>
              <a:t>Les Etats Parties intéressés communiquent au Directeur général les qualifications et le domaine de compétence de chaque expert qu’ils proposent.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81080" y="5397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676440" y="917640"/>
            <a:ext cx="7773840" cy="442800"/>
          </a:xfrm>
          <a:prstGeom prst="rect">
            <a:avLst/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fr-FR" sz="2600" spc="-1" strike="noStrike">
                <a:solidFill>
                  <a:srgbClr val="7030a0"/>
                </a:solidFill>
                <a:latin typeface="Arial Blac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7"/>
          <p:cNvSpPr/>
          <p:nvPr/>
        </p:nvSpPr>
        <p:spPr>
          <a:xfrm>
            <a:off x="676440" y="1481040"/>
            <a:ext cx="779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ut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Prévenir la propagation internationale des maladies, de s'en protéger, de la maîtriser et d'y réagir en évitant de créer des entraves inutiles au trafic et au commerce internationaux"</a:t>
            </a: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Arial Black"/>
              </a:rPr>
              <a:t>Comité d’urgence</a:t>
            </a:r>
            <a:endParaRPr b="0" lang="en-US" sz="3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523520"/>
            <a:ext cx="914544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- Membres choisis par le DG à partir de la liste des Exper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- Comité sollicité pour donner son avis sur: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question de savoir si un événement constitue une USPPI;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question de savoir si une USPPI a pris fin ; 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proposition d’émettre, de modifier, de proroger ou d’annuler des recommandations temporaire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81080" y="56865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66"/>
                </a:solidFill>
                <a:latin typeface="Arial Black"/>
              </a:rPr>
              <a:t>Comité d’examen</a:t>
            </a:r>
            <a:endParaRPr b="0" lang="en-US" sz="39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2000" y="1413000"/>
            <a:ext cx="576108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11"/>
              </a:spcBef>
              <a:buClr>
                <a:srgbClr val="a50021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Membres choisis par le DG de l’OMS </a:t>
            </a: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à </a:t>
            </a: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partir de la liste des Experts</a:t>
            </a:r>
            <a:endParaRPr b="1" lang="en-US" sz="2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- Leur rôle est de donner un avis technique sur le RSI(2005) et de proposer d’éventuels amendements</a:t>
            </a:r>
            <a:endParaRPr b="1" lang="en-US" sz="29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207" name="Image 2" descr=""/>
          <p:cNvPicPr/>
          <p:nvPr/>
        </p:nvPicPr>
        <p:blipFill>
          <a:blip r:embed="rId1"/>
          <a:stretch/>
        </p:blipFill>
        <p:spPr>
          <a:xfrm>
            <a:off x="6877080" y="1844640"/>
            <a:ext cx="158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79280" y="-27000"/>
            <a:ext cx="892980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E 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. PRINCIPALES CAPACITES REQUISES POUR LA SURVEILLANCE ET L’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. PRINCIPALES CAPACITES REQUISES DES AEROPORTS, PORTS ET POSTES-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NTIERES DESIG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 DE DECISION PERMETTANT D’EVALUER ET DE NOTIFIER LES EVENEMENT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I PEUVENT CONSTITUER UNE URGENCE DE SANTE PUBLIQUE DE PORTE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E DE CERTIFICAT D’EXEMPTION DE CONTROLE SANITAIRE D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RE/CERTIFICAT DE CONTROLE SANITAIRE DE NAV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4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CRIPTION TECHNIQUES APPLICABLES AUX MOYENS DE TRANSPORT ET AUX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LOITANTS DE 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SURES PARTICULIERES CONCERNANT LES MALADIES A TRANSMISSION VECTORI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ATION, PROPHYLAXIE ET CERTIFICATS Y AFFER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7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CRIPTIONS CONCERNANT LA VACCINATION OU LA PROPHYLAXIE CON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RTAINES MALA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8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E DE DECLARATION MARITIME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9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E RELAVITE AUX QUESTIONS SANITAIRES DE LA DECLARATION GENERALE D’AERON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2360" y="4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églement Sanitaire International (2005) - ANN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81080" y="1844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000066"/>
                </a:solidFill>
                <a:latin typeface="Arial Narrow"/>
              </a:rPr>
              <a:t>P</a:t>
            </a:r>
            <a:r>
              <a:rPr b="1" lang="fr-FR" sz="3900" spc="-1" strike="noStrike">
                <a:solidFill>
                  <a:srgbClr val="000066"/>
                </a:solidFill>
                <a:latin typeface="Arial Narrow"/>
                <a:ea typeface="MS PGothic"/>
              </a:rPr>
              <a:t>rocessus d’évaluation des événements et procédure de communication des événements dans le cadre du RSI(2005)</a:t>
            </a: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0720" y="259920"/>
            <a:ext cx="8783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66"/>
                </a:solidFill>
                <a:latin typeface="Arial Narrow"/>
              </a:rPr>
              <a:t>Urgence de Santé Publique de Portée Internationale (USPPI)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844280"/>
            <a:ext cx="914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c06d0"/>
                </a:solidFill>
                <a:latin typeface="Arial Narrow"/>
              </a:rPr>
              <a:t>     </a:t>
            </a:r>
            <a:r>
              <a:rPr b="1" lang="fr-FR" sz="3200" spc="-1" strike="noStrike">
                <a:solidFill>
                  <a:srgbClr val="2c06d0"/>
                </a:solidFill>
                <a:latin typeface="Arial Narrow"/>
              </a:rPr>
              <a:t>S’entend d’un événement extraordinaire qui est déterminé, comme prévu dans le présent Règlement (Titre I, Article 1) 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i) constitue un risque pour la santé publique pour d’autres Etats en raison du risque de propagation internationale de maladies ;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et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ii) requiert une action internationale coordonnée</a:t>
            </a:r>
            <a:r>
              <a:rPr b="0" lang="fr-F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3640" y="115560"/>
            <a:ext cx="74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Black"/>
              </a:rPr>
              <a:t>Instrument de décision (Annexe 2)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189400" y="979560"/>
            <a:ext cx="363240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215" name="Group 4"/>
          <p:cNvGrpSpPr/>
          <p:nvPr/>
        </p:nvGrpSpPr>
        <p:grpSpPr>
          <a:xfrm>
            <a:off x="252360" y="765000"/>
            <a:ext cx="5400720" cy="1297080"/>
            <a:chOff x="252360" y="765000"/>
            <a:chExt cx="5400720" cy="1297080"/>
          </a:xfrm>
        </p:grpSpPr>
        <p:sp>
          <p:nvSpPr>
            <p:cNvPr id="216" name="Text Box 5"/>
            <p:cNvSpPr/>
            <p:nvPr/>
          </p:nvSpPr>
          <p:spPr>
            <a:xfrm>
              <a:off x="252360" y="765000"/>
              <a:ext cx="4753080" cy="119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4 maladies qui doivent toujours être notifiées 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polio (virus polio de type sauvage), variole, grippe humaine d’un nouveau sous-type, SRAS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5005440" y="1484280"/>
              <a:ext cx="64764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252360" y="2141640"/>
            <a:ext cx="7416720" cy="1191240"/>
            <a:chOff x="252360" y="2141640"/>
            <a:chExt cx="7416720" cy="1191240"/>
          </a:xfrm>
        </p:grpSpPr>
        <p:sp>
          <p:nvSpPr>
            <p:cNvPr id="219" name="Text Box 8"/>
            <p:cNvSpPr/>
            <p:nvPr/>
          </p:nvSpPr>
          <p:spPr>
            <a:xfrm>
              <a:off x="252360" y="2141640"/>
              <a:ext cx="4753080" cy="119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Des maladies qui doivent toujours conduire à l’utilisation de l’algorithme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holera, peste pneumonique, fièvre jaune, FVH (Ebola, Lassa, Marburg), WNF, méningite, autres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V="1">
              <a:off x="5005440" y="2492280"/>
              <a:ext cx="2663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0"/>
          <p:cNvGrpSpPr/>
          <p:nvPr/>
        </p:nvGrpSpPr>
        <p:grpSpPr>
          <a:xfrm>
            <a:off x="252360" y="3141360"/>
            <a:ext cx="6553080" cy="2546640"/>
            <a:chOff x="252360" y="3141360"/>
            <a:chExt cx="6553080" cy="2546640"/>
          </a:xfrm>
        </p:grpSpPr>
        <p:sp>
          <p:nvSpPr>
            <p:cNvPr id="222" name="Text Box 11"/>
            <p:cNvSpPr/>
            <p:nvPr/>
          </p:nvSpPr>
          <p:spPr>
            <a:xfrm>
              <a:off x="252360" y="3519360"/>
              <a:ext cx="4753080" cy="216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1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graves répercussions sur la santé publiqu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2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inhabituel ou inattendu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3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risque de propagation international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4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risque de restrictions aux voyages ou au commerc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V="1">
              <a:off x="5005440" y="3141360"/>
              <a:ext cx="165564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5005440" y="3716280"/>
              <a:ext cx="93492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 flipV="1">
              <a:off x="5005440" y="4292280"/>
              <a:ext cx="1366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5005440" y="4869000"/>
              <a:ext cx="1800000" cy="7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252360" y="5229360"/>
            <a:ext cx="7561440" cy="1000080"/>
            <a:chOff x="252360" y="5229360"/>
            <a:chExt cx="7561440" cy="1000080"/>
          </a:xfrm>
        </p:grpSpPr>
        <p:sp>
          <p:nvSpPr>
            <p:cNvPr id="228" name="Text Box 17"/>
            <p:cNvSpPr/>
            <p:nvPr/>
          </p:nvSpPr>
          <p:spPr>
            <a:xfrm>
              <a:off x="252360" y="5861160"/>
              <a:ext cx="475308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Informations insuffisantes: rééval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 flipV="1">
              <a:off x="5005440" y="5229360"/>
              <a:ext cx="280836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125880" y="630360"/>
            <a:ext cx="2666880" cy="5331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Garamond"/>
              </a:rPr>
              <a:t>L’événement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est-il grav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973080" y="3068640"/>
            <a:ext cx="316728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-at-il un risque de propa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internationale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140360" y="4149720"/>
            <a:ext cx="28209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a-t-il un risque de restrictions international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7164360" y="4287960"/>
            <a:ext cx="1584360" cy="1085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180200" y="4440240"/>
            <a:ext cx="171288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Réévaluer si pl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d’inform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disponi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3659040" y="4363920"/>
            <a:ext cx="4557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049200" y="2687760"/>
            <a:ext cx="2817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3049560" y="2687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4878360" y="1413000"/>
            <a:ext cx="703440" cy="399960"/>
          </a:xfrm>
          <a:prstGeom prst="ellipse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362320" y="4592520"/>
            <a:ext cx="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5819760" y="2535120"/>
            <a:ext cx="60948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5364000" y="5029200"/>
            <a:ext cx="733680" cy="344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5653080" y="1916280"/>
            <a:ext cx="3095640" cy="37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L’événement est-il inattendu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5"/>
          <p:cNvGrpSpPr/>
          <p:nvPr/>
        </p:nvGrpSpPr>
        <p:grpSpPr>
          <a:xfrm>
            <a:off x="396720" y="2349360"/>
            <a:ext cx="8496000" cy="3958920"/>
            <a:chOff x="396720" y="2349360"/>
            <a:chExt cx="8496000" cy="3958920"/>
          </a:xfrm>
        </p:grpSpPr>
        <p:sp>
          <p:nvSpPr>
            <p:cNvPr id="244" name="Line 16"/>
            <p:cNvSpPr/>
            <p:nvPr/>
          </p:nvSpPr>
          <p:spPr>
            <a:xfrm>
              <a:off x="724680" y="2806560"/>
              <a:ext cx="0" cy="304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7"/>
            <p:cNvSpPr/>
            <p:nvPr/>
          </p:nvSpPr>
          <p:spPr>
            <a:xfrm>
              <a:off x="478080" y="5850720"/>
              <a:ext cx="8414640" cy="457560"/>
            </a:xfrm>
            <a:prstGeom prst="flowChartAlternateProcess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Garamond"/>
                </a:rPr>
                <a:t>L’événement doit être notifié </a:t>
              </a: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à</a:t>
              </a:r>
              <a:r>
                <a:rPr b="1" lang="fr-FR" sz="1800" spc="-1" strike="noStrike">
                  <a:solidFill>
                    <a:srgbClr val="ffff00"/>
                  </a:solidFill>
                  <a:latin typeface="Garamond"/>
                </a:rPr>
                <a:t> l’OMS en vertu du Règlement Sanitaire Intern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724680" y="2349360"/>
              <a:ext cx="0" cy="1526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9"/>
            <p:cNvSpPr/>
            <p:nvPr/>
          </p:nvSpPr>
          <p:spPr>
            <a:xfrm>
              <a:off x="396720" y="2502000"/>
              <a:ext cx="654480" cy="304560"/>
            </a:xfrm>
            <a:prstGeom prst="flowChartTerminator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500" spc="-1" strike="noStrike">
                  <a:solidFill>
                    <a:srgbClr val="808080"/>
                  </a:solidFill>
                  <a:latin typeface="Arial"/>
                </a:rPr>
                <a:t>Ou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20"/>
          <p:cNvSpPr/>
          <p:nvPr/>
        </p:nvSpPr>
        <p:spPr>
          <a:xfrm>
            <a:off x="2058840" y="4287960"/>
            <a:ext cx="609840" cy="3045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5183280" y="1163520"/>
            <a:ext cx="0" cy="304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5487840" y="1620720"/>
            <a:ext cx="1675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7162920" y="1620720"/>
            <a:ext cx="0" cy="382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4"/>
          <p:cNvGrpSpPr/>
          <p:nvPr/>
        </p:nvGrpSpPr>
        <p:grpSpPr>
          <a:xfrm>
            <a:off x="1906560" y="2382840"/>
            <a:ext cx="722160" cy="685440"/>
            <a:chOff x="1906560" y="2382840"/>
            <a:chExt cx="722160" cy="685440"/>
          </a:xfrm>
        </p:grpSpPr>
        <p:sp>
          <p:nvSpPr>
            <p:cNvPr id="253" name="Line 25"/>
            <p:cNvSpPr/>
            <p:nvPr/>
          </p:nvSpPr>
          <p:spPr>
            <a:xfrm>
              <a:off x="2266920" y="2382840"/>
              <a:ext cx="0" cy="152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6"/>
            <p:cNvSpPr/>
            <p:nvPr/>
          </p:nvSpPr>
          <p:spPr>
            <a:xfrm>
              <a:off x="1906560" y="2535120"/>
              <a:ext cx="722160" cy="344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>
              <a:off x="2266920" y="2840760"/>
              <a:ext cx="0" cy="22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28"/>
          <p:cNvSpPr/>
          <p:nvPr/>
        </p:nvSpPr>
        <p:spPr>
          <a:xfrm>
            <a:off x="2362320" y="3678120"/>
            <a:ext cx="0" cy="6098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3352680" y="3678120"/>
            <a:ext cx="0" cy="6098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0"/>
          <p:cNvSpPr/>
          <p:nvPr/>
        </p:nvSpPr>
        <p:spPr>
          <a:xfrm>
            <a:off x="6173640" y="2382840"/>
            <a:ext cx="0" cy="152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1"/>
          <p:cNvSpPr/>
          <p:nvPr/>
        </p:nvSpPr>
        <p:spPr>
          <a:xfrm flipV="1">
            <a:off x="6097680" y="5167080"/>
            <a:ext cx="949320" cy="126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2"/>
          <p:cNvGrpSpPr/>
          <p:nvPr/>
        </p:nvGrpSpPr>
        <p:grpSpPr>
          <a:xfrm>
            <a:off x="324000" y="1197000"/>
            <a:ext cx="4101480" cy="1220400"/>
            <a:chOff x="324000" y="1197000"/>
            <a:chExt cx="4101480" cy="1220400"/>
          </a:xfrm>
        </p:grpSpPr>
        <p:sp>
          <p:nvSpPr>
            <p:cNvPr id="261" name="Rectangle 33"/>
            <p:cNvSpPr/>
            <p:nvPr/>
          </p:nvSpPr>
          <p:spPr>
            <a:xfrm>
              <a:off x="324000" y="2037240"/>
              <a:ext cx="3137040" cy="380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700" spc="-1" strike="noStrike">
                  <a:solidFill>
                    <a:srgbClr val="ffff00"/>
                  </a:solidFill>
                  <a:latin typeface="Garamond"/>
                </a:rPr>
                <a:t>L’événement est-il inattend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4"/>
            <p:cNvSpPr/>
            <p:nvPr/>
          </p:nvSpPr>
          <p:spPr>
            <a:xfrm>
              <a:off x="3782160" y="1502280"/>
              <a:ext cx="643320" cy="305280"/>
            </a:xfrm>
            <a:prstGeom prst="flowChartTerminator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500" spc="-1" strike="noStrike">
                  <a:solidFill>
                    <a:srgbClr val="808080"/>
                  </a:solidFill>
                  <a:latin typeface="Arial"/>
                </a:rPr>
                <a:t>Oui</a:t>
              </a:r>
              <a:r>
                <a:rPr b="1" lang="en-GB" sz="15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>
              <a:off x="4104720" y="1197000"/>
              <a:ext cx="0" cy="30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 flipH="1">
              <a:off x="1771200" y="1654920"/>
              <a:ext cx="2010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>
              <a:off x="1771560" y="1654920"/>
              <a:ext cx="0" cy="381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Line 38"/>
          <p:cNvSpPr/>
          <p:nvPr/>
        </p:nvSpPr>
        <p:spPr>
          <a:xfrm>
            <a:off x="4713120" y="4724280"/>
            <a:ext cx="0" cy="1157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5792760" y="4724280"/>
            <a:ext cx="0" cy="304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2916360" y="4211640"/>
            <a:ext cx="742680" cy="344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1"/>
          <p:cNvGrpSpPr/>
          <p:nvPr/>
        </p:nvGrpSpPr>
        <p:grpSpPr>
          <a:xfrm>
            <a:off x="7308720" y="2276640"/>
            <a:ext cx="720360" cy="685440"/>
            <a:chOff x="7308720" y="2276640"/>
            <a:chExt cx="720360" cy="685440"/>
          </a:xfrm>
        </p:grpSpPr>
        <p:sp>
          <p:nvSpPr>
            <p:cNvPr id="270" name="Line 42"/>
            <p:cNvSpPr/>
            <p:nvPr/>
          </p:nvSpPr>
          <p:spPr>
            <a:xfrm>
              <a:off x="7668000" y="2276640"/>
              <a:ext cx="0" cy="152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3"/>
            <p:cNvSpPr/>
            <p:nvPr/>
          </p:nvSpPr>
          <p:spPr>
            <a:xfrm>
              <a:off x="7308720" y="2428920"/>
              <a:ext cx="720360" cy="344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4"/>
            <p:cNvSpPr/>
            <p:nvPr/>
          </p:nvSpPr>
          <p:spPr>
            <a:xfrm>
              <a:off x="7668000" y="2734560"/>
              <a:ext cx="0" cy="22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5"/>
          <p:cNvGrpSpPr/>
          <p:nvPr/>
        </p:nvGrpSpPr>
        <p:grpSpPr>
          <a:xfrm>
            <a:off x="7415280" y="3657600"/>
            <a:ext cx="756720" cy="684000"/>
            <a:chOff x="7415280" y="3657600"/>
            <a:chExt cx="756720" cy="684000"/>
          </a:xfrm>
        </p:grpSpPr>
        <p:sp>
          <p:nvSpPr>
            <p:cNvPr id="274" name="Line 46"/>
            <p:cNvSpPr/>
            <p:nvPr/>
          </p:nvSpPr>
          <p:spPr>
            <a:xfrm>
              <a:off x="7792920" y="3657600"/>
              <a:ext cx="0" cy="151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7"/>
            <p:cNvSpPr/>
            <p:nvPr/>
          </p:nvSpPr>
          <p:spPr>
            <a:xfrm>
              <a:off x="7415280" y="3809520"/>
              <a:ext cx="756720" cy="343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8"/>
            <p:cNvSpPr/>
            <p:nvPr/>
          </p:nvSpPr>
          <p:spPr>
            <a:xfrm>
              <a:off x="7792920" y="4114440"/>
              <a:ext cx="0" cy="227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AutoShape 49"/>
          <p:cNvSpPr/>
          <p:nvPr/>
        </p:nvSpPr>
        <p:spPr>
          <a:xfrm>
            <a:off x="4381560" y="5092560"/>
            <a:ext cx="60948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6399360" y="3656160"/>
            <a:ext cx="0" cy="5000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1"/>
          <p:cNvSpPr/>
          <p:nvPr/>
        </p:nvSpPr>
        <p:spPr>
          <a:xfrm>
            <a:off x="6105600" y="3733920"/>
            <a:ext cx="609480" cy="3045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5653080" y="2997360"/>
            <a:ext cx="31669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-at-il un risque de propa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internationale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Arial Black"/>
              </a:rPr>
              <a:t>Q1. Graves répercussions sur la Santé Publique ?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541520"/>
            <a:ext cx="914544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c06d0"/>
                </a:solidFill>
                <a:latin typeface="Arial Narrow"/>
              </a:rPr>
              <a:t>Nombre cas et/ou nombre décès pour ce type d’événement est-il élevé pour le lieu, la période ou la population considérés ?</a:t>
            </a:r>
            <a:endParaRPr b="1" lang="en-US" sz="21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c06d0"/>
                </a:solidFill>
                <a:latin typeface="Arial Narrow"/>
              </a:rPr>
              <a:t>L’événement risque-t-il d’avoir d’importantes répercussions sur la santé publique ?</a:t>
            </a:r>
            <a:endParaRPr b="1" lang="en-US" sz="21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vénement causé par un agent pathogène ayant un fort potentiel épidémique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dication de l’échec du traitement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as signalés parmi le personnel de santé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pagation de matériel toxique d’origine naturelle ou autre, qui a contaminé ou risque de contaminer une population et/ou une vaste zone géographiqu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c06d0"/>
                </a:solidFill>
                <a:latin typeface="Arial Narrow"/>
              </a:rPr>
              <a:t>Une aide extérieure est-elle nécessaire pour détecter, étudier, endiguer et maîtriser l’événement en cours, ou pour éviter de nouveaux cas ?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5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Arial Black"/>
              </a:rPr>
              <a:t>Q2. Evènement inhabituel ou inattendu ?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125000"/>
            <a:ext cx="914544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L’événement est-il inhabituel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</a:rPr>
              <a:t>L’événement est causé par un agent inconnu ou la source, le vecteur, la voie de transmission sont inhabituels ou inconnu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</a:rPr>
              <a:t>L’évolution des cas est plus grave que prévu ou s’accompagne de symptômes inhabituel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35880" indent="-33588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c06d0"/>
                </a:solidFill>
                <a:latin typeface="Arial Narrow"/>
              </a:rPr>
              <a:t>L’évènement est-il inattendu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L’événement est causé par une maladie/un agent qui a déjà été éliminé(e) ou éradiqué(e) dans l’Etat Partie ou qui n’a pas été signalé(e) précédemment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676440" y="917640"/>
            <a:ext cx="7773840" cy="442800"/>
          </a:xfrm>
          <a:prstGeom prst="rect">
            <a:avLst/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fr-FR" sz="2600" spc="-1" strike="noStrike">
                <a:solidFill>
                  <a:srgbClr val="7030a0"/>
                </a:solidFill>
                <a:latin typeface="Arial Blac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676440" y="1481040"/>
            <a:ext cx="779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Historique : RSI 1969, 1973, 1981 et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SI 1969 vise six maladies (choléra, peste, FJ, variole, fièvre récurrente et typh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SI(2005) entre en vigueur le 15 juin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5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Q3. Risque important de propagation internationale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599840"/>
            <a:ext cx="914544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Y a-t-il des signes de lien épidémiologique avec des événements semblables dans d’autres Etats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Y a-t-il un facteur quelconque qui fasse craindre la possibilité d’un mouvement transfrontières de l’agent, du vecteur ou de l’hôte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énement causé par une contamination de l’environnement qui risque de se propager au-delà des frontières internationales.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énement survenant dans une zone de trafic international intense ayant une capacité limitée de contrôle sanitaire, de détection dans l’environnement ou de décontamination.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Arial Black"/>
              </a:rPr>
              <a:t>Q4. Risque de restrictions aux voyages ou au commerce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Des événements semblables survenus dans le passé ont-ils entraîné l’imposition de restrictions aux échanges et/ou aux voyages internationaux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Soupçonne-t-on ou sait-on que la source est un produit alimentaire, de l’eau ou toute autre marchandise susceptibles d’être contaminés, qui ont été exportés vers d’autres Etats ou importés d’autres Etats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L’événement s’est-il produit dans le cadre d’un rassemblement international ou dans une zone de tourisme international intense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576360" y="1125360"/>
          <a:ext cx="7199280" cy="539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5360"/>
                    <a:ext cx="71992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Principales </a:t>
            </a:r>
            <a:r>
              <a:rPr b="1" lang="en-GB" sz="2800" spc="-1" strike="noStrike">
                <a:solidFill>
                  <a:srgbClr val="ff3300"/>
                </a:solidFill>
                <a:latin typeface="Arial Black"/>
              </a:rPr>
              <a:t>é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tapes dans la mise en oeuvre du RSI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1413000"/>
            <a:ext cx="896472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nsibilisation des 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ideurs et des acteurs de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aluation des capaci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 requ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loppement du Plan d’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ision/Adaptation des Guides techniques, outils et Proc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ures op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tionnelle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se en oeuvre du Plan d’Action y compris l’utilisation de l’Instrument de 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bilisation des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ivi et Evaluation de la mise en oeuvre du 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Que Peut offrir le RSI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Le RSI a un soutien l</a:t>
            </a:r>
            <a:r>
              <a:rPr b="0" lang="fr-FR" sz="3000" spc="-1" strike="noStrike">
                <a:solidFill>
                  <a:srgbClr val="000066"/>
                </a:solidFill>
                <a:latin typeface="Arial Narrow"/>
              </a:rPr>
              <a:t>é</a:t>
            </a: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gal et politique pour stimuler  d’avantage la mise en oeuvre de la SIMR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En outre, le RSI apportera des outils et des ressources  additionnelles qui permettront le renforcement des   principales capacit</a:t>
            </a:r>
            <a:r>
              <a:rPr b="0" lang="fr-FR" sz="3000" spc="-1" strike="noStrike">
                <a:solidFill>
                  <a:srgbClr val="000066"/>
                </a:solidFill>
                <a:latin typeface="Arial Narrow"/>
              </a:rPr>
              <a:t>é</a:t>
            </a: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s pour la surveillance et la riposte. 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Que peut offrir la SMIR?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765000"/>
            <a:ext cx="82310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Infra-structures et ressources pour la surveillance,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’investigation, la confirmation, le reportage et la riposte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essources humaines expérimentée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Un processus de mise en oeuvre défini (sensibilisation, évaluation, plan d’action, mise en oeuvre,suivi et évaluation)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Guides Génériques pour l’évaluation; Guides Techniques; matériels de formation; outils et procédures opérationnelles standards (besoin d’incorporer les composantes du RSI)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5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Epidémie / Pandémi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notification </a:t>
            </a:r>
            <a:r>
              <a:rPr b="0" lang="en-GB" sz="3400" spc="-1" strike="noStrike">
                <a:solidFill>
                  <a:srgbClr val="cc0000"/>
                </a:solidFill>
                <a:latin typeface="Arial Black"/>
              </a:rPr>
              <a:t>tardive</a:t>
            </a: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 et ripos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092240" y="53355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1092240" y="498168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1092240" y="46371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092240" y="428292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092240" y="394164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1092240" y="35877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1092240" y="324468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092240" y="285264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1092240" y="254808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2"/>
          <p:cNvSpPr/>
          <p:nvPr/>
        </p:nvSpPr>
        <p:spPr>
          <a:xfrm>
            <a:off x="1092240" y="2719440"/>
            <a:ext cx="7093080" cy="295740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882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3"/>
          <p:cNvSpPr/>
          <p:nvPr/>
        </p:nvSpPr>
        <p:spPr>
          <a:xfrm>
            <a:off x="1092240" y="2719440"/>
            <a:ext cx="7093080" cy="295740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882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092240" y="2548080"/>
            <a:ext cx="1440" cy="31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1014480" y="567684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1014480" y="53355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1014480" y="498168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1014480" y="46371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1014480" y="428292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1014480" y="394164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1014480" y="35877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1014480" y="324468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1014480" y="289080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1014480" y="254808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1092240" y="5676840"/>
            <a:ext cx="709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 flipV="1">
            <a:off x="109224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 flipV="1">
            <a:off x="12780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 flipV="1">
            <a:off x="145584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9"/>
          <p:cNvSpPr/>
          <p:nvPr/>
        </p:nvSpPr>
        <p:spPr>
          <a:xfrm flipV="1">
            <a:off x="163980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 flipV="1">
            <a:off x="18162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 flipV="1">
            <a:off x="200340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2"/>
          <p:cNvSpPr/>
          <p:nvPr/>
        </p:nvSpPr>
        <p:spPr>
          <a:xfrm flipV="1">
            <a:off x="218592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 flipV="1">
            <a:off x="23637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"/>
          <p:cNvSpPr/>
          <p:nvPr/>
        </p:nvSpPr>
        <p:spPr>
          <a:xfrm flipV="1">
            <a:off x="25495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 flipV="1">
            <a:off x="2733840" y="567684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6"/>
          <p:cNvSpPr/>
          <p:nvPr/>
        </p:nvSpPr>
        <p:spPr>
          <a:xfrm flipV="1">
            <a:off x="29098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 flipV="1">
            <a:off x="309708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 flipV="1">
            <a:off x="327168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"/>
          <p:cNvSpPr/>
          <p:nvPr/>
        </p:nvSpPr>
        <p:spPr>
          <a:xfrm flipV="1">
            <a:off x="345744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0"/>
          <p:cNvSpPr/>
          <p:nvPr/>
        </p:nvSpPr>
        <p:spPr>
          <a:xfrm flipV="1">
            <a:off x="364320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1"/>
          <p:cNvSpPr/>
          <p:nvPr/>
        </p:nvSpPr>
        <p:spPr>
          <a:xfrm flipV="1">
            <a:off x="38196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2"/>
          <p:cNvSpPr/>
          <p:nvPr/>
        </p:nvSpPr>
        <p:spPr>
          <a:xfrm flipV="1">
            <a:off x="40035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3"/>
          <p:cNvSpPr/>
          <p:nvPr/>
        </p:nvSpPr>
        <p:spPr>
          <a:xfrm flipV="1">
            <a:off x="41799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 flipV="1">
            <a:off x="43657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5"/>
          <p:cNvSpPr/>
          <p:nvPr/>
        </p:nvSpPr>
        <p:spPr>
          <a:xfrm flipV="1">
            <a:off x="4551480" y="5676840"/>
            <a:ext cx="28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 flipV="1">
            <a:off x="47260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 flipV="1">
            <a:off x="491328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8"/>
          <p:cNvSpPr/>
          <p:nvPr/>
        </p:nvSpPr>
        <p:spPr>
          <a:xfrm flipV="1">
            <a:off x="5097600" y="5676840"/>
            <a:ext cx="28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9"/>
          <p:cNvSpPr/>
          <p:nvPr/>
        </p:nvSpPr>
        <p:spPr>
          <a:xfrm flipV="1">
            <a:off x="527364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0"/>
          <p:cNvSpPr/>
          <p:nvPr/>
        </p:nvSpPr>
        <p:spPr>
          <a:xfrm flipV="1">
            <a:off x="54594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1"/>
          <p:cNvSpPr/>
          <p:nvPr/>
        </p:nvSpPr>
        <p:spPr>
          <a:xfrm flipV="1">
            <a:off x="56358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58197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3"/>
          <p:cNvSpPr/>
          <p:nvPr/>
        </p:nvSpPr>
        <p:spPr>
          <a:xfrm flipV="1">
            <a:off x="60069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61815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636732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6"/>
          <p:cNvSpPr/>
          <p:nvPr/>
        </p:nvSpPr>
        <p:spPr>
          <a:xfrm flipV="1">
            <a:off x="65437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7"/>
          <p:cNvSpPr/>
          <p:nvPr/>
        </p:nvSpPr>
        <p:spPr>
          <a:xfrm flipV="1">
            <a:off x="67294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8"/>
          <p:cNvSpPr/>
          <p:nvPr/>
        </p:nvSpPr>
        <p:spPr>
          <a:xfrm flipV="1">
            <a:off x="691344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9"/>
          <p:cNvSpPr/>
          <p:nvPr/>
        </p:nvSpPr>
        <p:spPr>
          <a:xfrm flipV="1">
            <a:off x="709128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0"/>
          <p:cNvSpPr/>
          <p:nvPr/>
        </p:nvSpPr>
        <p:spPr>
          <a:xfrm flipV="1">
            <a:off x="72756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V="1">
            <a:off x="746280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 flipV="1">
            <a:off x="764064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3"/>
          <p:cNvSpPr/>
          <p:nvPr/>
        </p:nvSpPr>
        <p:spPr>
          <a:xfrm flipV="1">
            <a:off x="782316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4"/>
          <p:cNvSpPr/>
          <p:nvPr/>
        </p:nvSpPr>
        <p:spPr>
          <a:xfrm flipV="1">
            <a:off x="79995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5"/>
          <p:cNvSpPr/>
          <p:nvPr/>
        </p:nvSpPr>
        <p:spPr>
          <a:xfrm flipV="1">
            <a:off x="81853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6"/>
          <p:cNvSpPr/>
          <p:nvPr/>
        </p:nvSpPr>
        <p:spPr>
          <a:xfrm>
            <a:off x="800640" y="548496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7"/>
          <p:cNvSpPr/>
          <p:nvPr/>
        </p:nvSpPr>
        <p:spPr>
          <a:xfrm>
            <a:off x="686160" y="51404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8"/>
          <p:cNvSpPr/>
          <p:nvPr/>
        </p:nvSpPr>
        <p:spPr>
          <a:xfrm>
            <a:off x="686160" y="47862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9"/>
          <p:cNvSpPr/>
          <p:nvPr/>
        </p:nvSpPr>
        <p:spPr>
          <a:xfrm>
            <a:off x="686160" y="44449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0"/>
          <p:cNvSpPr/>
          <p:nvPr/>
        </p:nvSpPr>
        <p:spPr>
          <a:xfrm>
            <a:off x="686160" y="40910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1"/>
          <p:cNvSpPr/>
          <p:nvPr/>
        </p:nvSpPr>
        <p:spPr>
          <a:xfrm>
            <a:off x="686160" y="37479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2"/>
          <p:cNvSpPr/>
          <p:nvPr/>
        </p:nvSpPr>
        <p:spPr>
          <a:xfrm>
            <a:off x="686160" y="33940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3"/>
          <p:cNvSpPr/>
          <p:nvPr/>
        </p:nvSpPr>
        <p:spPr>
          <a:xfrm>
            <a:off x="686160" y="30510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4"/>
          <p:cNvSpPr/>
          <p:nvPr/>
        </p:nvSpPr>
        <p:spPr>
          <a:xfrm>
            <a:off x="686160" y="26989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5"/>
          <p:cNvSpPr/>
          <p:nvPr/>
        </p:nvSpPr>
        <p:spPr>
          <a:xfrm>
            <a:off x="686160" y="23544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6"/>
          <p:cNvSpPr/>
          <p:nvPr/>
        </p:nvSpPr>
        <p:spPr>
          <a:xfrm>
            <a:off x="108072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7"/>
          <p:cNvSpPr/>
          <p:nvPr/>
        </p:nvSpPr>
        <p:spPr>
          <a:xfrm>
            <a:off x="162684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8"/>
          <p:cNvSpPr/>
          <p:nvPr/>
        </p:nvSpPr>
        <p:spPr>
          <a:xfrm>
            <a:off x="217440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9"/>
          <p:cNvSpPr/>
          <p:nvPr/>
        </p:nvSpPr>
        <p:spPr>
          <a:xfrm>
            <a:off x="258084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0"/>
          <p:cNvSpPr/>
          <p:nvPr/>
        </p:nvSpPr>
        <p:spPr>
          <a:xfrm>
            <a:off x="3118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1"/>
          <p:cNvSpPr/>
          <p:nvPr/>
        </p:nvSpPr>
        <p:spPr>
          <a:xfrm>
            <a:off x="36658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2"/>
          <p:cNvSpPr/>
          <p:nvPr/>
        </p:nvSpPr>
        <p:spPr>
          <a:xfrm>
            <a:off x="421200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3"/>
          <p:cNvSpPr/>
          <p:nvPr/>
        </p:nvSpPr>
        <p:spPr>
          <a:xfrm>
            <a:off x="475956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5305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5"/>
          <p:cNvSpPr/>
          <p:nvPr/>
        </p:nvSpPr>
        <p:spPr>
          <a:xfrm>
            <a:off x="585252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6"/>
          <p:cNvSpPr/>
          <p:nvPr/>
        </p:nvSpPr>
        <p:spPr>
          <a:xfrm>
            <a:off x="638892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7"/>
          <p:cNvSpPr/>
          <p:nvPr/>
        </p:nvSpPr>
        <p:spPr>
          <a:xfrm>
            <a:off x="693756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8"/>
          <p:cNvSpPr/>
          <p:nvPr/>
        </p:nvSpPr>
        <p:spPr>
          <a:xfrm>
            <a:off x="7483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9"/>
          <p:cNvSpPr/>
          <p:nvPr/>
        </p:nvSpPr>
        <p:spPr>
          <a:xfrm>
            <a:off x="80344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0"/>
          <p:cNvSpPr/>
          <p:nvPr/>
        </p:nvSpPr>
        <p:spPr>
          <a:xfrm>
            <a:off x="3276720" y="2276640"/>
            <a:ext cx="0" cy="2286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1"/>
          <p:cNvSpPr/>
          <p:nvPr/>
        </p:nvSpPr>
        <p:spPr>
          <a:xfrm>
            <a:off x="4505760" y="1411560"/>
            <a:ext cx="138312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po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tard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2"/>
          <p:cNvSpPr/>
          <p:nvPr/>
        </p:nvSpPr>
        <p:spPr>
          <a:xfrm>
            <a:off x="8215920" y="58827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3"/>
          <p:cNvSpPr/>
          <p:nvPr/>
        </p:nvSpPr>
        <p:spPr>
          <a:xfrm rot="16200000">
            <a:off x="88920" y="3423240"/>
            <a:ext cx="60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4"/>
          <p:cNvSpPr/>
          <p:nvPr/>
        </p:nvSpPr>
        <p:spPr>
          <a:xfrm flipH="1">
            <a:off x="5221080" y="3716280"/>
            <a:ext cx="1509480" cy="1308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5"/>
          <p:cNvSpPr/>
          <p:nvPr/>
        </p:nvSpPr>
        <p:spPr>
          <a:xfrm>
            <a:off x="5205240" y="2575440"/>
            <a:ext cx="3940200" cy="13136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Perte de l’opportunité d’assurer le contrôl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isque de propagation inter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6"/>
          <p:cNvSpPr/>
          <p:nvPr/>
        </p:nvSpPr>
        <p:spPr>
          <a:xfrm>
            <a:off x="2274480" y="1411560"/>
            <a:ext cx="19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o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ard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7"/>
          <p:cNvSpPr/>
          <p:nvPr/>
        </p:nvSpPr>
        <p:spPr>
          <a:xfrm>
            <a:off x="1332000" y="1844640"/>
            <a:ext cx="0" cy="38386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8"/>
          <p:cNvSpPr/>
          <p:nvPr/>
        </p:nvSpPr>
        <p:spPr>
          <a:xfrm>
            <a:off x="612720" y="1482840"/>
            <a:ext cx="151308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em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9"/>
          <p:cNvSpPr/>
          <p:nvPr/>
        </p:nvSpPr>
        <p:spPr>
          <a:xfrm>
            <a:off x="5148360" y="2205000"/>
            <a:ext cx="0" cy="2287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1131840" y="541512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1131840" y="506412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1131840" y="4724280"/>
            <a:ext cx="6993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1131840" y="437364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1131840" y="403560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1131840" y="368460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131840" y="334656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1131840" y="2995560"/>
            <a:ext cx="6993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1131840" y="2654280"/>
            <a:ext cx="69930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1131840" y="2825640"/>
            <a:ext cx="6993000" cy="292752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919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2"/>
          <p:cNvSpPr/>
          <p:nvPr/>
        </p:nvSpPr>
        <p:spPr>
          <a:xfrm>
            <a:off x="1131840" y="2825640"/>
            <a:ext cx="6993000" cy="292752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919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"/>
          <p:cNvSpPr/>
          <p:nvPr/>
        </p:nvSpPr>
        <p:spPr>
          <a:xfrm>
            <a:off x="1131840" y="2654280"/>
            <a:ext cx="1800" cy="30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1055520" y="5753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1055520" y="5415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1055520" y="5064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7"/>
          <p:cNvSpPr/>
          <p:nvPr/>
        </p:nvSpPr>
        <p:spPr>
          <a:xfrm>
            <a:off x="1055520" y="47242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8"/>
          <p:cNvSpPr/>
          <p:nvPr/>
        </p:nvSpPr>
        <p:spPr>
          <a:xfrm>
            <a:off x="1055520" y="4373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1055520" y="40356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0"/>
          <p:cNvSpPr/>
          <p:nvPr/>
        </p:nvSpPr>
        <p:spPr>
          <a:xfrm>
            <a:off x="1055520" y="36846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1055520" y="33465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2"/>
          <p:cNvSpPr/>
          <p:nvPr/>
        </p:nvSpPr>
        <p:spPr>
          <a:xfrm>
            <a:off x="1055520" y="29955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3"/>
          <p:cNvSpPr/>
          <p:nvPr/>
        </p:nvSpPr>
        <p:spPr>
          <a:xfrm>
            <a:off x="1055520" y="2654280"/>
            <a:ext cx="76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4"/>
          <p:cNvSpPr/>
          <p:nvPr/>
        </p:nvSpPr>
        <p:spPr>
          <a:xfrm>
            <a:off x="1131840" y="5753160"/>
            <a:ext cx="699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5"/>
          <p:cNvSpPr/>
          <p:nvPr/>
        </p:nvSpPr>
        <p:spPr>
          <a:xfrm flipV="1">
            <a:off x="11318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 flipV="1">
            <a:off x="13161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7"/>
          <p:cNvSpPr/>
          <p:nvPr/>
        </p:nvSpPr>
        <p:spPr>
          <a:xfrm flipV="1">
            <a:off x="14889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 flipV="1">
            <a:off x="16732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9"/>
          <p:cNvSpPr/>
          <p:nvPr/>
        </p:nvSpPr>
        <p:spPr>
          <a:xfrm flipV="1">
            <a:off x="18446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0"/>
          <p:cNvSpPr/>
          <p:nvPr/>
        </p:nvSpPr>
        <p:spPr>
          <a:xfrm flipV="1">
            <a:off x="20289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1"/>
          <p:cNvSpPr/>
          <p:nvPr/>
        </p:nvSpPr>
        <p:spPr>
          <a:xfrm flipV="1">
            <a:off x="22096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2"/>
          <p:cNvSpPr/>
          <p:nvPr/>
        </p:nvSpPr>
        <p:spPr>
          <a:xfrm flipV="1">
            <a:off x="23842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3"/>
          <p:cNvSpPr/>
          <p:nvPr/>
        </p:nvSpPr>
        <p:spPr>
          <a:xfrm flipV="1">
            <a:off x="256716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4"/>
          <p:cNvSpPr/>
          <p:nvPr/>
        </p:nvSpPr>
        <p:spPr>
          <a:xfrm flipV="1">
            <a:off x="27511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5"/>
          <p:cNvSpPr/>
          <p:nvPr/>
        </p:nvSpPr>
        <p:spPr>
          <a:xfrm flipV="1">
            <a:off x="29224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6"/>
          <p:cNvSpPr/>
          <p:nvPr/>
        </p:nvSpPr>
        <p:spPr>
          <a:xfrm flipV="1">
            <a:off x="310680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7"/>
          <p:cNvSpPr/>
          <p:nvPr/>
        </p:nvSpPr>
        <p:spPr>
          <a:xfrm flipV="1">
            <a:off x="327960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8"/>
          <p:cNvSpPr/>
          <p:nvPr/>
        </p:nvSpPr>
        <p:spPr>
          <a:xfrm flipV="1">
            <a:off x="34639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"/>
          <p:cNvSpPr/>
          <p:nvPr/>
        </p:nvSpPr>
        <p:spPr>
          <a:xfrm flipV="1">
            <a:off x="36450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0"/>
          <p:cNvSpPr/>
          <p:nvPr/>
        </p:nvSpPr>
        <p:spPr>
          <a:xfrm flipV="1">
            <a:off x="38210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1"/>
          <p:cNvSpPr/>
          <p:nvPr/>
        </p:nvSpPr>
        <p:spPr>
          <a:xfrm flipV="1">
            <a:off x="40021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2"/>
          <p:cNvSpPr/>
          <p:nvPr/>
        </p:nvSpPr>
        <p:spPr>
          <a:xfrm flipV="1">
            <a:off x="41767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3"/>
          <p:cNvSpPr/>
          <p:nvPr/>
        </p:nvSpPr>
        <p:spPr>
          <a:xfrm flipV="1">
            <a:off x="43578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4"/>
          <p:cNvSpPr/>
          <p:nvPr/>
        </p:nvSpPr>
        <p:spPr>
          <a:xfrm flipV="1">
            <a:off x="45417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"/>
          <p:cNvSpPr/>
          <p:nvPr/>
        </p:nvSpPr>
        <p:spPr>
          <a:xfrm flipV="1">
            <a:off x="47149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6"/>
          <p:cNvSpPr/>
          <p:nvPr/>
        </p:nvSpPr>
        <p:spPr>
          <a:xfrm flipV="1">
            <a:off x="48988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7"/>
          <p:cNvSpPr/>
          <p:nvPr/>
        </p:nvSpPr>
        <p:spPr>
          <a:xfrm flipV="1">
            <a:off x="50817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8"/>
          <p:cNvSpPr/>
          <p:nvPr/>
        </p:nvSpPr>
        <p:spPr>
          <a:xfrm flipV="1">
            <a:off x="52545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9"/>
          <p:cNvSpPr/>
          <p:nvPr/>
        </p:nvSpPr>
        <p:spPr>
          <a:xfrm flipV="1">
            <a:off x="54370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0"/>
          <p:cNvSpPr/>
          <p:nvPr/>
        </p:nvSpPr>
        <p:spPr>
          <a:xfrm flipV="1">
            <a:off x="56116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1"/>
          <p:cNvSpPr/>
          <p:nvPr/>
        </p:nvSpPr>
        <p:spPr>
          <a:xfrm flipV="1">
            <a:off x="579420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2"/>
          <p:cNvSpPr/>
          <p:nvPr/>
        </p:nvSpPr>
        <p:spPr>
          <a:xfrm flipV="1">
            <a:off x="597708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3"/>
          <p:cNvSpPr/>
          <p:nvPr/>
        </p:nvSpPr>
        <p:spPr>
          <a:xfrm flipV="1">
            <a:off x="61498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4"/>
          <p:cNvSpPr/>
          <p:nvPr/>
        </p:nvSpPr>
        <p:spPr>
          <a:xfrm flipV="1">
            <a:off x="633240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5"/>
          <p:cNvSpPr/>
          <p:nvPr/>
        </p:nvSpPr>
        <p:spPr>
          <a:xfrm flipV="1">
            <a:off x="650556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6"/>
          <p:cNvSpPr/>
          <p:nvPr/>
        </p:nvSpPr>
        <p:spPr>
          <a:xfrm flipV="1">
            <a:off x="668988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7"/>
          <p:cNvSpPr/>
          <p:nvPr/>
        </p:nvSpPr>
        <p:spPr>
          <a:xfrm flipV="1">
            <a:off x="68724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8"/>
          <p:cNvSpPr/>
          <p:nvPr/>
        </p:nvSpPr>
        <p:spPr>
          <a:xfrm flipV="1">
            <a:off x="70470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9"/>
          <p:cNvSpPr/>
          <p:nvPr/>
        </p:nvSpPr>
        <p:spPr>
          <a:xfrm flipV="1">
            <a:off x="72295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0"/>
          <p:cNvSpPr/>
          <p:nvPr/>
        </p:nvSpPr>
        <p:spPr>
          <a:xfrm flipV="1">
            <a:off x="741204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1"/>
          <p:cNvSpPr/>
          <p:nvPr/>
        </p:nvSpPr>
        <p:spPr>
          <a:xfrm flipV="1">
            <a:off x="75852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2"/>
          <p:cNvSpPr/>
          <p:nvPr/>
        </p:nvSpPr>
        <p:spPr>
          <a:xfrm flipV="1">
            <a:off x="77677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3"/>
          <p:cNvSpPr/>
          <p:nvPr/>
        </p:nvSpPr>
        <p:spPr>
          <a:xfrm flipV="1">
            <a:off x="794232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4"/>
          <p:cNvSpPr/>
          <p:nvPr/>
        </p:nvSpPr>
        <p:spPr>
          <a:xfrm flipV="1">
            <a:off x="812484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865440" y="556272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6"/>
          <p:cNvSpPr/>
          <p:nvPr/>
        </p:nvSpPr>
        <p:spPr>
          <a:xfrm>
            <a:off x="753480" y="52228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7"/>
          <p:cNvSpPr/>
          <p:nvPr/>
        </p:nvSpPr>
        <p:spPr>
          <a:xfrm>
            <a:off x="753480" y="48718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8"/>
          <p:cNvSpPr/>
          <p:nvPr/>
        </p:nvSpPr>
        <p:spPr>
          <a:xfrm>
            <a:off x="753480" y="4533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9"/>
          <p:cNvSpPr/>
          <p:nvPr/>
        </p:nvSpPr>
        <p:spPr>
          <a:xfrm>
            <a:off x="753480" y="41832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0"/>
          <p:cNvSpPr/>
          <p:nvPr/>
        </p:nvSpPr>
        <p:spPr>
          <a:xfrm>
            <a:off x="753480" y="38448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1"/>
          <p:cNvSpPr/>
          <p:nvPr/>
        </p:nvSpPr>
        <p:spPr>
          <a:xfrm>
            <a:off x="753480" y="3494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2"/>
          <p:cNvSpPr/>
          <p:nvPr/>
        </p:nvSpPr>
        <p:spPr>
          <a:xfrm>
            <a:off x="753480" y="31543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3"/>
          <p:cNvSpPr/>
          <p:nvPr/>
        </p:nvSpPr>
        <p:spPr>
          <a:xfrm>
            <a:off x="753480" y="28051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4"/>
          <p:cNvSpPr/>
          <p:nvPr/>
        </p:nvSpPr>
        <p:spPr>
          <a:xfrm>
            <a:off x="753480" y="24652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5"/>
          <p:cNvSpPr/>
          <p:nvPr/>
        </p:nvSpPr>
        <p:spPr>
          <a:xfrm>
            <a:off x="109332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6"/>
          <p:cNvSpPr/>
          <p:nvPr/>
        </p:nvSpPr>
        <p:spPr>
          <a:xfrm>
            <a:off x="163224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7"/>
          <p:cNvSpPr/>
          <p:nvPr/>
        </p:nvSpPr>
        <p:spPr>
          <a:xfrm>
            <a:off x="217224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8"/>
          <p:cNvSpPr/>
          <p:nvPr/>
        </p:nvSpPr>
        <p:spPr>
          <a:xfrm>
            <a:off x="25725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9"/>
          <p:cNvSpPr/>
          <p:nvPr/>
        </p:nvSpPr>
        <p:spPr>
          <a:xfrm>
            <a:off x="31021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0"/>
          <p:cNvSpPr/>
          <p:nvPr/>
        </p:nvSpPr>
        <p:spPr>
          <a:xfrm>
            <a:off x="364104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1"/>
          <p:cNvSpPr/>
          <p:nvPr/>
        </p:nvSpPr>
        <p:spPr>
          <a:xfrm>
            <a:off x="418104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2"/>
          <p:cNvSpPr/>
          <p:nvPr/>
        </p:nvSpPr>
        <p:spPr>
          <a:xfrm>
            <a:off x="472140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3"/>
          <p:cNvSpPr/>
          <p:nvPr/>
        </p:nvSpPr>
        <p:spPr>
          <a:xfrm>
            <a:off x="525888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4"/>
          <p:cNvSpPr/>
          <p:nvPr/>
        </p:nvSpPr>
        <p:spPr>
          <a:xfrm>
            <a:off x="57985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5"/>
          <p:cNvSpPr/>
          <p:nvPr/>
        </p:nvSpPr>
        <p:spPr>
          <a:xfrm>
            <a:off x="632808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6"/>
          <p:cNvSpPr/>
          <p:nvPr/>
        </p:nvSpPr>
        <p:spPr>
          <a:xfrm>
            <a:off x="68677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7"/>
          <p:cNvSpPr/>
          <p:nvPr/>
        </p:nvSpPr>
        <p:spPr>
          <a:xfrm>
            <a:off x="74073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88"/>
          <p:cNvSpPr/>
          <p:nvPr/>
        </p:nvSpPr>
        <p:spPr>
          <a:xfrm>
            <a:off x="79473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9"/>
          <p:cNvSpPr/>
          <p:nvPr/>
        </p:nvSpPr>
        <p:spPr>
          <a:xfrm>
            <a:off x="2589120" y="1517760"/>
            <a:ext cx="0" cy="42051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0"/>
          <p:cNvSpPr/>
          <p:nvPr/>
        </p:nvSpPr>
        <p:spPr>
          <a:xfrm>
            <a:off x="2500920" y="1543320"/>
            <a:ext cx="1383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ipo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ap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1"/>
          <p:cNvSpPr/>
          <p:nvPr/>
        </p:nvSpPr>
        <p:spPr>
          <a:xfrm rot="16200000">
            <a:off x="69840" y="4188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2"/>
          <p:cNvSpPr/>
          <p:nvPr/>
        </p:nvSpPr>
        <p:spPr>
          <a:xfrm>
            <a:off x="1655640" y="1658880"/>
            <a:ext cx="0" cy="41245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3"/>
          <p:cNvSpPr/>
          <p:nvPr/>
        </p:nvSpPr>
        <p:spPr>
          <a:xfrm>
            <a:off x="591840" y="1513080"/>
            <a:ext cx="19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éc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94"/>
          <p:cNvSpPr/>
          <p:nvPr/>
        </p:nvSpPr>
        <p:spPr>
          <a:xfrm>
            <a:off x="3173400" y="2558880"/>
            <a:ext cx="5024520" cy="3213360"/>
          </a:xfrm>
          <a:custGeom>
            <a:avLst/>
            <a:gdLst/>
            <a:ahLst/>
            <a:rect l="l" t="t" r="r" b="b"/>
            <a:pathLst>
              <a:path w="3283" h="1907">
                <a:moveTo>
                  <a:pt x="145" y="1265"/>
                </a:moveTo>
                <a:lnTo>
                  <a:pt x="767" y="146"/>
                </a:lnTo>
                <a:lnTo>
                  <a:pt x="934" y="0"/>
                </a:lnTo>
                <a:lnTo>
                  <a:pt x="1231" y="239"/>
                </a:lnTo>
                <a:lnTo>
                  <a:pt x="1324" y="650"/>
                </a:lnTo>
                <a:lnTo>
                  <a:pt x="1378" y="836"/>
                </a:lnTo>
                <a:lnTo>
                  <a:pt x="1539" y="1115"/>
                </a:lnTo>
                <a:lnTo>
                  <a:pt x="1649" y="1277"/>
                </a:lnTo>
                <a:lnTo>
                  <a:pt x="1813" y="1465"/>
                </a:lnTo>
                <a:lnTo>
                  <a:pt x="1917" y="1627"/>
                </a:lnTo>
                <a:lnTo>
                  <a:pt x="2132" y="1766"/>
                </a:lnTo>
                <a:lnTo>
                  <a:pt x="2257" y="1805"/>
                </a:lnTo>
                <a:lnTo>
                  <a:pt x="2395" y="1829"/>
                </a:lnTo>
                <a:lnTo>
                  <a:pt x="2677" y="1871"/>
                </a:lnTo>
                <a:lnTo>
                  <a:pt x="3283" y="1901"/>
                </a:lnTo>
                <a:lnTo>
                  <a:pt x="757" y="1907"/>
                </a:lnTo>
                <a:lnTo>
                  <a:pt x="331" y="1901"/>
                </a:lnTo>
                <a:lnTo>
                  <a:pt x="157" y="1670"/>
                </a:lnTo>
                <a:lnTo>
                  <a:pt x="0" y="1496"/>
                </a:lnTo>
                <a:lnTo>
                  <a:pt x="145" y="1265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5"/>
          <p:cNvSpPr/>
          <p:nvPr/>
        </p:nvSpPr>
        <p:spPr>
          <a:xfrm flipH="1">
            <a:off x="4212720" y="3068640"/>
            <a:ext cx="3117960" cy="1947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6"/>
          <p:cNvSpPr/>
          <p:nvPr/>
        </p:nvSpPr>
        <p:spPr>
          <a:xfrm>
            <a:off x="4549680" y="1439640"/>
            <a:ext cx="4595760" cy="119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Eventuels case évité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Propagation internationale év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7"/>
          <p:cNvSpPr/>
          <p:nvPr/>
        </p:nvSpPr>
        <p:spPr>
          <a:xfrm>
            <a:off x="8148960" y="58827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8"/>
          <p:cNvSpPr/>
          <p:nvPr/>
        </p:nvSpPr>
        <p:spPr>
          <a:xfrm>
            <a:off x="0" y="0"/>
            <a:ext cx="9145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Epidémie / Pandémie: </a:t>
            </a:r>
            <a:br>
              <a:rPr sz="3400"/>
            </a:b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Notification </a:t>
            </a:r>
            <a:r>
              <a:rPr b="0" lang="en-GB" sz="3400" spc="-1" strike="noStrike">
                <a:solidFill>
                  <a:srgbClr val="cc0000"/>
                </a:solidFill>
                <a:latin typeface="Arial Black"/>
              </a:rPr>
              <a:t>précoce</a:t>
            </a: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 et ripos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menées au Burkina F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Espace réservé du numéro de diapositive 3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548-44ED-4485-B6A4-BB2B01869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1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14200" y="1412640"/>
            <a:ext cx="86457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adaptation du guide de surveillance intégrée de la maladie et la riposte qui a permis de prendre en compte les exigences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valuation des capacités minimale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laboration d’un plan de renforcement des capacité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7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42E-065C-4622-A226-185B70F09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cc"/>
                </a:solidFill>
                <a:latin typeface="Arial Black"/>
              </a:rPr>
              <a:t>LA SECURITE SANITAIRE PUBLIQUE EST LE BUT DU RSI</a:t>
            </a:r>
            <a:endParaRPr b="0" lang="en-US" sz="2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10920" y="2421000"/>
            <a:ext cx="6024600" cy="13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Assurant le maximum de sécurité sanitaire publique 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Tout en minimisant l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  <a:ea typeface="SimSun"/>
              </a:rPr>
              <a:t>’</a:t>
            </a: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interférence avec le trafic et le commerce international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36840" y="1587600"/>
            <a:ext cx="648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Est entr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en vigueur le 15 Juin 2007*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17360" y="795240"/>
            <a:ext cx="2119320" cy="311472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000066">
                <a:alpha val="50000"/>
              </a:srgbClr>
            </a:outerShdw>
          </a:effectLst>
        </p:spPr>
      </p:pic>
      <p:sp>
        <p:nvSpPr>
          <p:cNvPr id="102" name="Text Box 6"/>
          <p:cNvSpPr/>
          <p:nvPr/>
        </p:nvSpPr>
        <p:spPr>
          <a:xfrm>
            <a:off x="755640" y="5913360"/>
            <a:ext cx="74898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4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</a:rPr>
              <a:t>Une date ulterieure s’applique aux Etats qui ont soumis des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4437000"/>
            <a:ext cx="7861320" cy="13640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Instrument 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gal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liant l’OMS et tous les pays du monde qui ont accep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de jouer le </a:t>
            </a:r>
            <a:r>
              <a:rPr b="1" lang="fr-BE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même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fr-BE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rôle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pour 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curiser la san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internationale</a:t>
            </a:r>
            <a:r>
              <a:rPr b="0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0720" y="27432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2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14200" y="1413000"/>
            <a:ext cx="86457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prorogation obtenue du délai de mise en œuvre des capacités de base requise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nomination d’un point focal RSI au niveau national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adoption d’un décret en conseil de Ministres portant création, attributions, composition et fonctionnement de comités de coordinations de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0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B185-121D-47BA-9E25-BEE2F2A29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27432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3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14200" y="1413000"/>
            <a:ext cx="8645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désignation par chaque département ministériel concerné d’un point focal sectoriel RSI (2005) 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laboration d’un projet d’arrêté interministériel de nomination des membres du comité national de coordination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programmation de l’évaluation des capacités minimales pour la mise en œuvre du RSI(2005) en 2014.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3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5309-C11C-46C6-A904-3F1231166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3357360"/>
            <a:ext cx="88218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Black"/>
              </a:rPr>
              <a:t>MERCI</a:t>
            </a:r>
            <a:br>
              <a:rPr sz="3000"/>
            </a:b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5270400" y="3722760"/>
            <a:ext cx="21798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300" spc="-1" strike="noStrike">
                <a:solidFill>
                  <a:srgbClr val="ffffff"/>
                </a:solidFill>
                <a:latin typeface="Arial"/>
              </a:rPr>
              <a:t>Merci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Black"/>
              </a:rPr>
              <a:t>Quoi de Neuf dans le RSI (2005)?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Arial Black"/>
              </a:rPr>
              <a:t>Un changement de paradigme</a:t>
            </a:r>
            <a:endParaRPr b="0" lang="en-US" sz="2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1080" y="4292280"/>
            <a:ext cx="879624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- De 3 maladies désignées (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choléra, de la peste et de la fièvre jaune) 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- </a:t>
            </a: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Des mesures prédéfinies vers une réponse adaptée et en temps réel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- Du </a:t>
            </a:r>
            <a:r>
              <a:rPr b="1" lang="fr-BE" sz="2500" spc="-1" strike="noStrike">
                <a:solidFill>
                  <a:srgbClr val="000066"/>
                </a:solidFill>
                <a:latin typeface="Arial Narrow"/>
              </a:rPr>
              <a:t>contrôle </a:t>
            </a: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de frontières vers un confinement à la source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60240" y="1165320"/>
            <a:ext cx="1855800" cy="284616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b2b2b2">
                <a:alpha val="50000"/>
              </a:srgbClr>
            </a:outerShdw>
          </a:effectLst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6740640" y="1397160"/>
            <a:ext cx="1919160" cy="28828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000066">
                <a:alpha val="50000"/>
              </a:srgbClr>
            </a:outerShdw>
          </a:effectLst>
        </p:spPr>
      </p:pic>
      <p:sp>
        <p:nvSpPr>
          <p:cNvPr id="108" name="AutoShape 6"/>
          <p:cNvSpPr/>
          <p:nvPr/>
        </p:nvSpPr>
        <p:spPr>
          <a:xfrm>
            <a:off x="1878120" y="1662120"/>
            <a:ext cx="5557680" cy="1397160"/>
          </a:xfrm>
          <a:custGeom>
            <a:avLst/>
            <a:gdLst>
              <a:gd name="textAreaLeft" fmla="*/ 601560 w 5557680"/>
              <a:gd name="textAreaRight" fmla="*/ 4956120 w 5557680"/>
              <a:gd name="textAreaTop" fmla="*/ 394200 h 1397160"/>
              <a:gd name="textAreaBottom" fmla="*/ 1002960 h 1397160"/>
            </a:gdLst>
            <a:ahLst/>
            <a:rect l="textAreaLeft" t="textAreaTop" r="textAreaRight" b="textAreaBottom"/>
            <a:pathLst>
              <a:path w="21600" h="21600">
                <a:moveTo>
                  <a:pt x="0" y="6095"/>
                </a:moveTo>
                <a:lnTo>
                  <a:pt x="16233" y="6095"/>
                </a:lnTo>
                <a:lnTo>
                  <a:pt x="16233" y="0"/>
                </a:lnTo>
                <a:lnTo>
                  <a:pt x="21600" y="10800"/>
                </a:lnTo>
                <a:lnTo>
                  <a:pt x="16233" y="21600"/>
                </a:lnTo>
                <a:lnTo>
                  <a:pt x="16233" y="15505"/>
                </a:lnTo>
                <a:lnTo>
                  <a:pt x="0" y="15505"/>
                </a:lnTo>
                <a:lnTo>
                  <a:pt x="2338" y="10800"/>
                </a:lnTo>
                <a:lnTo>
                  <a:pt x="0" y="6095"/>
                </a:lnTo>
                <a:close/>
              </a:path>
            </a:pathLst>
          </a:custGeom>
          <a:gradFill rotWithShape="0">
            <a:gsLst>
              <a:gs pos="0">
                <a:srgbClr val="f1fd51"/>
              </a:gs>
              <a:gs pos="100000">
                <a:srgbClr val="ff6600"/>
              </a:gs>
            </a:gsLst>
            <a:lin ang="0"/>
          </a:gradFill>
          <a:ln w="0">
            <a:noFill/>
          </a:ln>
          <a:effectLst>
            <a:outerShdw dist="52300" dir="83643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78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Nouveau dans le RSI (2005)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691920"/>
            <a:ext cx="9145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Un instrument international, contraignant sur le plan juridique, liant les Etats Membres de l’OMS et non Membres de l’OMS qui ont accepté de s’y soumettre.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Élargissement du  champ d’application du RSI(1969) au-delà pour couvrir les maladies existantes, nouvelles ou résurgentes,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à toutes les menaces publiques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(USPPI  qui est  un événement de santé publique inhabituel) RSI 2005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Le RSI(2005) révisé a pour but d’éviter la propagation internationale des maladies tout en limitant les entraves à la libre circulation des voyageurs.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adopté par l’assemblée mondiale de la santé en Mai 2005  et entrée en vigueur le 15 juin 2007.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Arial Narrow"/>
              </a:rPr>
              <a:t>Une fois que l’OMS a déterminé qu’un événement particulier constitue une urgence de santé publique de portée internationale, le RSI(2005) exige que l’OMS réagisse en ‘temps réel’ à l’urgence.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Arial Narrow"/>
              </a:rPr>
              <a:t>En fonction du contexte spécifique à chaque urgence, le Directeur général de l’OMS recommandera les mesures à mettre en œuvre par l’Etat affecté ainsi que par les autres Eta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 Black"/>
              </a:rPr>
              <a:t>Objet du RSI(2005)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2360" y="934920"/>
            <a:ext cx="856944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SimSun"/>
              </a:rPr>
              <a:t>	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"prévenir la propagation internationale des maladies, s’en protéger, la maîtriser et y réagir pa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une action de santé publique proportionnée et limitée aux risques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qu’elle présente pour la santé publique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en évitant de créer des entraves inutiles au trafic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et au commerce internationaux" (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Article 2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94836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RAS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84360" y="3284640"/>
            <a:ext cx="446400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Un texte juridique contraignant ave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des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es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1:40:02Z</dcterms:created>
  <dc:creator>template-user1</dc:creator>
  <dc:description/>
  <dc:language>en-US</dc:language>
  <cp:lastModifiedBy>HP</cp:lastModifiedBy>
  <dcterms:modified xsi:type="dcterms:W3CDTF">2020-09-18T19:36:26Z</dcterms:modified>
  <cp:revision>345</cp:revision>
  <dc:subject/>
  <dc:title>WHO AI Coordination and Operations</dc:title>
</cp:coreProperties>
</file>